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55273"/>
        <c:axId val="5175628"/>
      </c:barChart>
      <c:catAx>
        <c:axId val="58055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5628"/>
        <c:crosses val="autoZero"/>
        <c:auto val="1"/>
        <c:lblAlgn val="ctr"/>
        <c:lblOffset val="100"/>
        <c:noMultiLvlLbl val="0"/>
      </c:catAx>
      <c:valAx>
        <c:axId val="5175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55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D72-B6F1-43F0-AE29-0880AE46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8B0-52CB-4230-B0A0-D6BD5CDA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F9D-7D2D-42A3-A137-1D6C1800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6E4-1C17-476E-870F-B8FBDDA3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550-9B67-4F04-9CEA-139FFD3E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A2F-2662-4CC1-86EB-DA784AFF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CF8-7F28-4ECA-B32C-DE5CA39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AEC-3C78-4D25-A23E-515691B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9EA-1A9A-42E4-A3C1-9F15FEA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5A4-6034-4DA0-A8B5-79BA065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FD5-A560-4274-9C56-AAB94CB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1A7-ADC7-4BC3-9AD4-7682BA84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3A037-D0A7-4B7C-9D9F-A60A44BC82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