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32508"/>
        <c:axId val="23823700"/>
      </c:barChart>
      <c:catAx>
        <c:axId val="339325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23700"/>
        <c:crosses val="autoZero"/>
        <c:auto val="1"/>
        <c:lblAlgn val="ctr"/>
        <c:lblOffset val="100"/>
        <c:noMultiLvlLbl val="0"/>
      </c:catAx>
      <c:valAx>
        <c:axId val="23823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325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E5D-10FF-47F5-AB89-1FD56517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783-0AA2-421F-8C6C-C1220D75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1973-CE96-4FD3-846E-4810E106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3750-A459-4619-8C52-394E415B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021D-3CF3-4F3A-ABA3-E4C70B3C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816E-9F24-4306-8410-19C8EF54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34C3-E014-45DA-AB5D-E4856CAA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15E6-C8A8-40BB-A348-B68D5771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621-2628-4853-B8F8-950310E4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8382-A91E-4D11-865F-E340999C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97DE-FE1B-44A1-98AB-5894BDCB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5AB9-7E32-4B8E-BC5F-DA0B7ACE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086B0-AEB4-4BEB-B9C6-C88C40F401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