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61469"/>
        <c:axId val="67647864"/>
      </c:barChart>
      <c:catAx>
        <c:axId val="82761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47864"/>
        <c:crosses val="autoZero"/>
        <c:auto val="1"/>
        <c:lblAlgn val="ctr"/>
        <c:lblOffset val="100"/>
        <c:noMultiLvlLbl val="0"/>
      </c:catAx>
      <c:valAx>
        <c:axId val="67647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61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EC3-4251-416B-8107-D9B73878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975-CEC6-404F-ACAF-4CA4A07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FE3-1552-4ABE-A035-31A7F872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E2F-637C-4CE9-9BA7-D9E9094F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56D-1395-4FF9-80EE-69DB93F1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BBA-E434-4F1A-8EE1-21694F1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EF5-0B70-4AA9-9E09-987BFE7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068-045A-45DB-A24A-8030231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FC4-6E71-4283-BDDA-C6DFE79C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455-4782-440F-8F2C-AA8CA46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09D-8A03-4467-AFE0-89E549E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870-5323-4E76-B735-F44EAAE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8ABFB-245D-4C56-87BF-C6BCB18E1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