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83446"/>
        <c:axId val="20779828"/>
      </c:barChart>
      <c:catAx>
        <c:axId val="28483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79828"/>
        <c:crosses val="autoZero"/>
        <c:auto val="1"/>
        <c:lblAlgn val="ctr"/>
        <c:lblOffset val="100"/>
        <c:noMultiLvlLbl val="0"/>
      </c:catAx>
      <c:valAx>
        <c:axId val="20779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83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1AF-406C-4E78-8C77-6D3561BF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DE6-F3C7-453A-A88E-F2450CC8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231-3081-4A84-B5E6-8FFBAEC1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C06-3BDC-4785-B76C-82A95182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B09-B07C-4597-880F-A13B2F75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C9C-37DF-4DCC-B5CB-68BC55D2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D84-0C5A-4A69-81BB-54E69FFC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A0F-99D0-4797-8597-7BB5FE89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DA7-E5F6-465F-B8A7-4DF7C71C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FEE-95DA-460A-B044-6BC2E508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815-BC8E-452D-89E8-7237A5B4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FDD-9353-4004-AB4F-9C2AAA6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61AF7-298C-4D42-A95D-BEAAC18898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