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73617"/>
        <c:axId val="96159996"/>
      </c:barChart>
      <c:catAx>
        <c:axId val="97373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59996"/>
        <c:crosses val="autoZero"/>
        <c:auto val="1"/>
        <c:lblAlgn val="ctr"/>
        <c:lblOffset val="100"/>
        <c:noMultiLvlLbl val="0"/>
      </c:catAx>
      <c:valAx>
        <c:axId val="96159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73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C18-945A-4CCB-85AA-6513CA1D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3B42-CE3B-4259-AC5E-CA85ED79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059-8798-493F-8129-33F5BB66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396-9455-4429-BFA0-BFC01037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B29F-EE1C-4139-997D-4ECE06F4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304-F34E-4AEF-8D7B-9F71CBE4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569-5D2A-4119-9B02-A3DC192C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D95-7590-485A-B527-9A330B1B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EF3-FA0D-4F35-B433-FB0A0A4E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712-C8A0-49AD-BC6A-B086DCE8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A47-E784-4A3D-B426-88A2DEBE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B19-372E-4A07-A6B7-C5308107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536FD-1B9C-4C96-8DBE-83DC856382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