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289"/>
        <c:axId val="88698353"/>
      </c:barChart>
      <c:catAx>
        <c:axId val="242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98353"/>
        <c:crosses val="autoZero"/>
        <c:auto val="1"/>
        <c:lblAlgn val="ctr"/>
        <c:lblOffset val="100"/>
        <c:noMultiLvlLbl val="0"/>
      </c:catAx>
      <c:valAx>
        <c:axId val="88698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B06-DC54-499A-A146-A0DF8810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F36-8F6A-468D-AF9C-5818CEA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6A4-B696-4028-AD33-95ED306A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C66-6E2B-4892-A248-339374B7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243-6FAE-434C-BD68-14108C3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508-28B4-4F0E-B5E9-0CE2331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FE5-0A90-465C-8A0B-D94C942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825-13C8-449D-A714-6A6D33AA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593-F4F5-4470-AB2A-5304FB6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A21-581D-43F4-9365-4B372D4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0FA-A5CA-4101-8598-CE9FD52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4F2-142A-41F9-A2C3-C0A47E9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916AD-7C10-404F-AF20-678194EA5D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