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1279"/>
        <c:axId val="4665471"/>
      </c:barChart>
      <c:catAx>
        <c:axId val="491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5471"/>
        <c:crosses val="autoZero"/>
        <c:auto val="1"/>
        <c:lblAlgn val="ctr"/>
        <c:lblOffset val="100"/>
        <c:noMultiLvlLbl val="0"/>
      </c:catAx>
      <c:valAx>
        <c:axId val="4665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884-83CC-44C5-9022-A407F0D3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A6E-0F9A-4ACB-9CA1-82CC1A3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A16-C814-439E-8184-9E414765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573-2BC1-4FAC-B289-D85E26CF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D6D-F403-41E7-9E84-C7CF4A3F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01E-44F9-41C6-B4EE-C407162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858-FC68-49A4-9460-0248C07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88F-DEDD-41E7-BE58-105B603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1D5-178A-4FD8-B976-FB99927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D9C-6874-49EB-8079-8E8DEE9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0AF-60E9-4F16-BAD3-E49DA73D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24F-3D50-4F18-9984-D90E63B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4758-6D26-47FC-8845-A9E6277C68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