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51284"/>
        <c:axId val="54006087"/>
      </c:barChart>
      <c:catAx>
        <c:axId val="83851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06087"/>
        <c:crosses val="autoZero"/>
        <c:auto val="1"/>
        <c:lblAlgn val="ctr"/>
        <c:lblOffset val="100"/>
        <c:noMultiLvlLbl val="0"/>
      </c:catAx>
      <c:valAx>
        <c:axId val="54006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51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DDB-B74E-4739-8189-1C35FA46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59F-CAE8-4177-8DF2-0A56F28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B15-C308-4379-A1D9-B38E7F19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FE6-7697-4306-B7ED-0EA7EC00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C97-2AC5-4428-95E8-BD7B215C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0DC-04D6-40B9-99EB-840CB1F4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661-D027-40E2-ABF3-7423BB99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9CD-8B8D-4D37-84DC-A4485435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AEE-3D37-4208-8B1B-F12D829D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E37-4B7B-4CB4-8D08-B563B54B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188-C8D7-48C4-8507-7A2489A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AAB-B5BD-4C33-8C19-36EAB8AA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C4963-CFB0-4330-9EB8-F33EECA6CA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