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49915"/>
        <c:axId val="63903307"/>
      </c:barChart>
      <c:catAx>
        <c:axId val="28449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03307"/>
        <c:crosses val="autoZero"/>
        <c:auto val="1"/>
        <c:lblAlgn val="ctr"/>
        <c:lblOffset val="100"/>
        <c:noMultiLvlLbl val="0"/>
      </c:catAx>
      <c:valAx>
        <c:axId val="63903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9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A09-2908-495A-93C4-211680F0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3A7-4A95-43F6-B882-3E52A654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781-41EF-410D-AD3B-7F4442F3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24F-F5B2-41C3-B264-F15533BC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533-A1EF-473E-BE1E-2143FB61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1AD-46D1-4A2C-8E1C-B6118C7B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F75-471A-4CBF-AE1D-750C06FC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6FB-714B-4DAD-AA6C-E8090FA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343-25A8-40E2-8208-E2A6B2DC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F00-E4E1-4FC6-81FF-3F5BB93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B15-BE00-4B33-8A72-F3E8525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003-B515-4CC0-AAF4-A45049F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8B9CB-6DB1-4CFD-BDC1-C720D2E0D5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