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30013"/>
        <c:axId val="96840621"/>
      </c:barChart>
      <c:catAx>
        <c:axId val="88030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40621"/>
        <c:crosses val="autoZero"/>
        <c:auto val="1"/>
        <c:lblAlgn val="ctr"/>
        <c:lblOffset val="100"/>
        <c:noMultiLvlLbl val="0"/>
      </c:catAx>
      <c:valAx>
        <c:axId val="96840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30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2723-5C92-4751-8D86-8B614F18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F97-1774-4B9B-B569-F8D15D26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E74-DBA3-45D0-857F-1D463871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31C-FD8F-4978-A0C9-E9137ED7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796-E18F-4007-9DCF-811133D6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030-90A2-4C82-89A2-10CCEDF7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597-FE88-4CE6-B133-A1BEDCFE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68E0-FCE0-49DC-8B84-A68FEEF2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899-2BA0-4784-8D31-9853F1F2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672-5D61-42A8-8A7D-844C7C85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62D-2CC3-40E1-A28A-92DE3737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B73-AFAF-41FD-8599-7BC44E78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5B8FF-B874-4C5C-885C-EF2F4E6191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