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05951"/>
        <c:axId val="77429145"/>
      </c:barChart>
      <c:catAx>
        <c:axId val="44405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29145"/>
        <c:crosses val="autoZero"/>
        <c:auto val="1"/>
        <c:lblAlgn val="ctr"/>
        <c:lblOffset val="100"/>
        <c:noMultiLvlLbl val="0"/>
      </c:catAx>
      <c:valAx>
        <c:axId val="77429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05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06E-7AFE-4187-9FB8-99AEC2E5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B3B-4090-453F-996F-A0E3451F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23F-94CA-4E67-ABF6-7AD1AFF4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01B-2B06-4FC8-9412-54832E93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378-C522-4AB9-8285-E29E7179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FF2-19C9-4303-8162-9D40481F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761-E5A9-4854-9A96-E5A51703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E8B-C343-48EC-B80B-BAA17E92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C25-7CD7-43E9-ADD8-B4842254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35C-2B8C-4D2F-9C0C-40CA274A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B50-88C2-4DB5-9400-42B556E1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737-48FA-4686-87C8-0BE96E16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C1201-91D5-4BCC-9CAC-D261998ED6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