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31920"/>
        <c:axId val="32229833"/>
      </c:barChart>
      <c:catAx>
        <c:axId val="75631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29833"/>
        <c:crosses val="autoZero"/>
        <c:auto val="1"/>
        <c:lblAlgn val="ctr"/>
        <c:lblOffset val="100"/>
        <c:noMultiLvlLbl val="0"/>
      </c:catAx>
      <c:valAx>
        <c:axId val="32229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31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679-C253-47AB-AE95-CD2587D9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677-AAEE-4539-9B7D-FA9CC75D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5DA-EDAC-4746-BA11-EBD6988E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21B-A612-4C91-B392-32C6440A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3F1-8560-4C79-881B-CC27EE4D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126-C35F-461D-B56E-9790A989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E53-07F6-43B0-BE69-F299C137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573E-CBA9-4156-82E2-CA5AD1CE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89CB-18F3-4C77-B864-FD41BAD8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63B-742A-49B8-8E18-D2C14050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856-0338-4D49-A319-D7224F75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E24-6F6F-4D14-B8EA-308B4BAD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D7577-29A4-47A6-983C-1055A4A204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