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16758"/>
        <c:axId val="71748593"/>
      </c:barChart>
      <c:catAx>
        <c:axId val="945167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48593"/>
        <c:crosses val="autoZero"/>
        <c:auto val="1"/>
        <c:lblAlgn val="ctr"/>
        <c:lblOffset val="100"/>
        <c:noMultiLvlLbl val="0"/>
      </c:catAx>
      <c:valAx>
        <c:axId val="717485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167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D58-56A8-4D78-A5D6-6337728C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C85F-3FDB-40DD-938E-1B94B7C3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A1BC-59F2-4D4F-99C2-5C7DA0F7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4D95-1BB2-466C-A2C2-95807E3E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9F7-B57E-4304-A0B6-82397E0E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772-C327-48BE-89D9-D1E090AC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479-A622-4A89-B415-33FAE7B4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DCFC-8C07-4396-B637-FE1943DF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A5D-A336-4E3D-A991-2800AE1B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8B6-0298-485E-AFD1-F64EECB4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1DC-6BA1-4D27-8BFB-DDB97672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B3D8-819A-4AEF-BED2-56103B74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E76F5-1901-47DB-A9BE-5F4330AFDB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