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584029"/>
        <c:axId val="5675702"/>
      </c:barChart>
      <c:catAx>
        <c:axId val="695840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5702"/>
        <c:crosses val="autoZero"/>
        <c:auto val="1"/>
        <c:lblAlgn val="ctr"/>
        <c:lblOffset val="100"/>
        <c:noMultiLvlLbl val="0"/>
      </c:catAx>
      <c:valAx>
        <c:axId val="56757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840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737-CD38-4446-BA22-D4F6EB1F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793-EB8F-40B2-9805-E92427F5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67F4-1238-490F-96F2-DF40FE0B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2F3-B945-4718-BD52-13668542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29B3-DA47-49AA-B009-71FA0895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A7EA-15CE-47E9-972B-4CB2CC77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DB0-4022-461A-A6D9-C5B4C4D1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B7A-9557-4A35-8372-83BD8EDF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17F3-9E7B-4920-B43A-C1E209D8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404-730B-4F5E-B28A-A4C9BB54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F626-6930-4710-86F2-D3880D58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82EB-9254-484A-A5B9-0A9D25E6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CAE79-E1BD-4876-8059-3589A7B9F0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